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D301-5218-4ABC-859C-4561EF401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46CC5-DB9C-4F67-91A7-E1DDB6040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91B8A-80F4-4586-9E8C-05A392CED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A5B1-F53A-4768-8B11-FE621D29C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104B-D1EF-4A4A-AD68-A12D6D089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4498-2F9B-4A09-A0A3-8D0051844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6E740-8B25-438C-89C1-243326E83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F38F-4BFC-4EE2-91B3-F2BA4E485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FEDE-6673-4932-814D-579D6A5F4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BA7C0-D7A9-40F6-BDF6-935507959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ADDD-4B9A-440F-8B5C-4C0E7D11B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7AA8-699A-49EF-A2E9-C623EA9D0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D02609-19BC-4E9F-8A3E-CBE4E3CAC23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45240" cy="708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4524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2-18T18:05:17Z</dcterms:modified>
  <cp:revision>94</cp:revision>
  <dc:subject/>
  <dc:title>No Slide Title</dc:title>
</cp:coreProperties>
</file>